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EDA3-B04E-4186-ACF4-588256CFD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E5D5-E77A-4179-AB45-2CE68DD55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3974-8F3B-4C9B-85D2-62BB19F26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D5B5-D8D4-4946-AE4D-8C29A4F63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3A30C-D404-4126-A782-DE9C16FF6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55A45-BC77-4A35-A918-C26F73FFB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70194-0246-4F05-90D2-8F0B8CC04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BE1BD-9E97-486F-91A9-AB8AA4EE3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6299C-6513-4F5D-9DC1-D64498785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9BDEC-B56B-4648-89C9-8B6914C45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F45B3-A2DE-418D-AFA9-24ECAA486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B137-AA18-4D5A-93E4-38EB86215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32DEC-D40F-45A0-95CF-20CA5A97F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54367-AA23-459B-838D-A567572A6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D20A3-F7EB-4C59-8C53-C3EA83E14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C6C96-7142-4D2C-BBD5-87B90B2FF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8A1C7-80D9-47D7-8B4B-696E4F41C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8465-5FF6-4F04-A5F3-F01A7B8D8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2F35-275C-4844-9D1E-1019321B4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B9CB-6D87-4582-B620-F7963D33D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2767-F5D7-49BD-BDF3-A700A97D3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303A-5168-41CB-A880-ACDBD1F1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7A47-C31A-4142-92B9-C7F938C8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6950-28AE-4CD1-95BD-CCAC0799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16734-F42B-44F6-88CF-73216DD56F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310E9-EFE5-4F45-995D-DE4A907F92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608200" y="6904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602080" y="546120"/>
            <a:ext cx="357624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Romance fronteriz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Abenámar y el rey Don Juan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-¡Abenámar, Abenámar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moro de la morerí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el día que tú nacis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grandes señales había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estaba la mar en calm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la luna estaba crecida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moro que en tal ssigno n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no debe decir mentir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-No te la diré, señor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aunque me cueste la vid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porque soy hijo de un mo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y una cristiana cautiva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siendo yo niño y muchach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mi madre me lo decí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que mentira no dijes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176560" y="11224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63840" y="692280"/>
            <a:ext cx="335124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que era grande villanía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por tanto, pregunta, rey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que la verdad te dirí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-Yo te agradezco, Abenámar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aquesta tu cortesí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¿Qué castillos son aquello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¡Altos son y relucían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-El Alhambra era, señor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y la otra, los alixare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labrados a maravill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El moro que los labrab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cien doblas ganaba al dí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y el día que no los lab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otras tanta se perdía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desque los tuvo labr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el rey le quitó la vid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porque no labre otros t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al rey del Andalucí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745720" y="690480"/>
            <a:ext cx="35640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El otro es Torres Bermeja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castillo de gran valía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el otro Generalif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huerta que par no tenía-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Allí hablara el rey don Jua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bien oiréis lo que decí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-Si tú quisieras, Granad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contigo me casaría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daréte en arras y do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a Córdoba y a Sevill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-Casada soy, rey don Jua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casad soy, que no vïuda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el moro que a mí me tie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muy grande bien me quería-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Hablara allí el rey don Jua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Estas palabras decí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-Echenme  acá mis lombardas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818440" y="1122480"/>
            <a:ext cx="3201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doña Sancha y doña Elvira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tiraremos a lo alt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lo bajo ella se daría-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El combate era tan fuer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que grande temor ponía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8T01:08:43Z</dcterms:created>
  <dc:creator> </dc:creator>
  <dc:description/>
  <dc:language>en-US</dc:language>
  <cp:lastModifiedBy> </cp:lastModifiedBy>
  <dcterms:modified xsi:type="dcterms:W3CDTF">2007-09-28T01:32:39Z</dcterms:modified>
  <cp:revision>2</cp:revision>
  <dc:subject/>
  <dc:title>Diapositiva 1</dc:title>
</cp:coreProperties>
</file>